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5.wmf" ContentType="image/x-wmf"/>
  <Override PartName="/ppt/media/image7.jpeg" ContentType="image/jpeg"/>
  <Override PartName="/ppt/media/image1.wmf" ContentType="image/x-wmf"/>
  <Override PartName="/ppt/media/whoosh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26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4C0C85D-4517-4E03-9671-35DBE85E0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5AF2157-4E5B-413E-A9E0-FB89F30AE9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DA80A91-3B7F-4B2D-822F-DC059D7C9C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F2523E1-3E6B-44F8-A78C-746A24506B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1BDDAEB-B68A-4E7E-8666-0F6E4EFA942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FD2D567-0A73-4785-81D9-6B791EA247A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25757B8-D184-4AE4-B406-CABB09B8E5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A3989CA-AF46-47AF-8DE3-9A044EB849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3B3C691-51A0-4C2C-BC20-8D09C8C4AE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A11E8C3-FAE1-47AC-9909-17312C3D6B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5505DF3-07A8-40BA-A531-DC043CE912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AB310DA-ADA2-47CC-A319-1A50E1F945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CC9BB26-7CD0-47F7-94A4-BC5C4493A4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C0083A0-7FE5-4E1F-B14C-743D96173B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496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29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253159-0C16-4DA5-B4B1-71A17207B8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3EBB-F2C6-4495-884C-01801660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210-53FD-484E-9B3C-911FBF19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BB3-B481-463A-ADF8-65399182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15D-AED1-4832-BFF7-CFFB482F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2564-75D8-4522-B78E-60A817143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E87D-9339-41CE-88EB-BE931F7D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FDD4-BF6B-4A8C-AF6A-64FE6D1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E0FB-2FA4-4398-9327-71BB1AFD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4273-EA98-4EBA-9269-822D894E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467-B20A-4314-A9FA-79E34CB7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CE69-A129-4115-A220-4E24B471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E68F-49FB-45A8-B556-2888B572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3FF5-50BF-4A0B-A4EE-9C2F4799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7FC8-CA7E-477D-8B7F-82093C77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E66C-2B07-4F46-BCE7-61912E8A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002D-A685-4736-B6E8-C6B639ED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6F0E-1B5E-4E7A-8580-9DC030B2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071-0F16-4AB1-92A3-2B971716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C23-CAC5-4196-B49C-2F5C3C35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6FC1-15A3-4D3D-B6F0-D04F58D3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185-E437-460E-91D7-91836F7B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4B1-6FE0-4739-BAEA-D466572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E89-9CF8-45F2-B2E1-6FB9CA6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FD4-F6E1-4EC0-8003-0FBA8BE9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CDD7-C6FE-47DD-A149-3C5D46B004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D4B4-FA29-4984-9CB2-CF82D81E39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Hand Wash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 After picking up item off flo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8.  After restro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9.  After cough, sneeze, et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0.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efore &amp; after contact with mouth or mucous membrane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pe02622_"/>
          <p:cNvPicPr/>
          <p:nvPr/>
        </p:nvPicPr>
        <p:blipFill>
          <a:blip r:embed="rId1"/>
          <a:stretch/>
        </p:blipFill>
        <p:spPr>
          <a:xfrm>
            <a:off x="4653000" y="2160720"/>
            <a:ext cx="403380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ethod for Washing Hand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non-abrasive soap &amp; warm running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b hands vigorous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h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rfaces for at least 15 seconds including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s of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fin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fingernai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nse 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y hands with paper tow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off water using paper towel instead of bar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MPj03999420000[1]"/>
          <p:cNvPicPr/>
          <p:nvPr/>
        </p:nvPicPr>
        <p:blipFill>
          <a:blip r:embed="rId1"/>
          <a:stretch/>
        </p:blipFill>
        <p:spPr>
          <a:xfrm>
            <a:off x="6730920" y="3200400"/>
            <a:ext cx="1370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terless Hand Clean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ed safe during routine pt.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K when hands not visibly dirty or not contaminated with blood or body flu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b hands until dry-at least 20 seco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use soap and water to wash hands after 6-10 cleanings with waterless hand cleans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 facility poli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 CDC Guideli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imes when hand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 washed with soap &amp; wat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tridium difficile……. C. dif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bly so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using bath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Alcohol based hand cleaners are not to be used in the above insta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ndwash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jor aspect of standard precau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st important aseptic techniqu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DC published new recommendations in 2002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#1 technique in preventing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the spread of disea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j0088984"/>
          <p:cNvPicPr/>
          <p:nvPr/>
        </p:nvPicPr>
        <p:blipFill>
          <a:blip r:embed="rId1"/>
          <a:stretch/>
        </p:blipFill>
        <p:spPr>
          <a:xfrm>
            <a:off x="1905120" y="2152800"/>
            <a:ext cx="53640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nds are perfect media for spread of pathoge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BD05149_"/>
          <p:cNvPicPr/>
          <p:nvPr/>
        </p:nvPicPr>
        <p:blipFill>
          <a:blip r:embed="rId1"/>
          <a:stretch/>
        </p:blipFill>
        <p:spPr>
          <a:xfrm>
            <a:off x="457200" y="2440080"/>
            <a:ext cx="40338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urposes of handwash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vent and control spread of pathoge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tection from disease &amp; illne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mes hands should be wash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.  When arriving &amp; before leaving faci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j0079068"/>
          <p:cNvPicPr/>
          <p:nvPr/>
        </p:nvPicPr>
        <p:blipFill>
          <a:blip r:embed="rId1"/>
          <a:stretch/>
        </p:blipFill>
        <p:spPr>
          <a:xfrm>
            <a:off x="4653000" y="1830240"/>
            <a:ext cx="4033800" cy="40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 Before &amp; after every patien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pe02716_"/>
          <p:cNvPicPr/>
          <p:nvPr/>
        </p:nvPicPr>
        <p:blipFill>
          <a:blip r:embed="rId1"/>
          <a:stretch/>
        </p:blipFill>
        <p:spPr>
          <a:xfrm>
            <a:off x="457200" y="1884240"/>
            <a:ext cx="403380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3.  Contaminated hand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4.  Before &amp; after glo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5.  Before &amp; after handling specim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 After contact with contaminated it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PE01736_"/>
          <p:cNvPicPr/>
          <p:nvPr/>
        </p:nvPicPr>
        <p:blipFill>
          <a:blip r:embed="rId1"/>
          <a:stretch/>
        </p:blipFill>
        <p:spPr>
          <a:xfrm>
            <a:off x="461880" y="1600200"/>
            <a:ext cx="4024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20:49:39Z</dcterms:created>
  <dc:creator> </dc:creator>
  <dc:description/>
  <dc:language>en-US</dc:language>
  <cp:lastModifiedBy>kyoung.av</cp:lastModifiedBy>
  <dcterms:modified xsi:type="dcterms:W3CDTF">2011-08-29T21:05:17Z</dcterms:modified>
  <cp:revision>14</cp:revision>
  <dc:subject/>
  <dc:title>Hand Washing</dc:title>
</cp:coreProperties>
</file>